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8747-1FAE-4FA2-8D63-CF84E6D5A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1867-37BE-415B-9A26-80E5A86A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24F1-99E1-48E4-BAFE-AD5BBA400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6D69-CD25-4818-960F-13E3F4700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4A1EA-2F8C-4C49-AE0C-8CF590B0B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F902-D210-421A-9F84-C2F51557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30A8-2FF6-471C-81FC-A40B3D85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6F31-0472-4680-A9DF-4D2DE2F3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74FE-D324-43F8-B10A-5C9B2ABA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7D74-58AC-49CF-95EB-A3E62246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5C30-4365-48E7-9256-4A8B5D6D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6532-41C4-4FAE-BA52-79E36CE2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232B-43B7-4638-A150-DA459DCA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BF39-BA76-4E02-9D05-5682868E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1B6C-22A0-4628-86C8-2E581ECF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7DDD-5032-4FA1-9491-923A7BB8E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605BB-820B-4413-8779-2A1A73551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1ACC-4803-4D48-AE0A-15430433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CC0F-476C-4B8F-AF6C-E2FB8D00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069E-26D0-4783-8458-230032BD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4368-45CE-4933-870A-6F197003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5CDD-D401-4DEE-B285-5379F084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706C-E35E-4DA6-BE37-C2F577D7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61D4-A9A9-46B7-A21C-EA3A73BF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Rectangle 3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Rectangle 7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0" y="171324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0" y="181656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3517-C864-45F3-B281-D6B2246715A2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Rectangle 3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5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Group 6"/>
            <p:cNvGrpSpPr/>
            <p:nvPr/>
          </p:nvGrpSpPr>
          <p:grpSpPr>
            <a:xfrm>
              <a:off x="0" y="3200400"/>
              <a:ext cx="9144000" cy="414000"/>
              <a:chOff x="0" y="3200400"/>
              <a:chExt cx="9144000" cy="414000"/>
            </a:xfrm>
          </p:grpSpPr>
          <p:sp>
            <p:nvSpPr>
              <p:cNvPr id="55" name="Rectangle 7"/>
              <p:cNvSpPr/>
              <p:nvPr/>
            </p:nvSpPr>
            <p:spPr>
              <a:xfrm>
                <a:off x="0" y="320040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0" y="330408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0" y="340740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0" y="351108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B623-1E63-420E-B086-4D1CB1F07F66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on Creang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1447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iografi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magini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ovesti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ovestiri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ovestiri didactic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ersuri Original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oezi popular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rticol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ostum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Versuri origina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 m-ai scris si versuri originale : Pasarica in timpul iernei , Nu lucrezi , n-ai ce manca , Ia!Clopotelul suna.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ezii populare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on a scris si poezii populare : Cand eram in Floarea mea , Mielusica , Bratu , Lina Catalina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rtiucole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rticolele scrise de Creanga au fost : Misiunea preotului in sata , iezuitismul in Romania , Floarantin , ect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stum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 scris si postume :Fat frumos , fiul iepei , Dragoste chioara si amoriu ghebos , ect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4" name="Picture 4" descr="referate_logo"/>
          <p:cNvPicPr/>
          <p:nvPr/>
        </p:nvPicPr>
        <p:blipFill>
          <a:blip r:embed="rId1"/>
          <a:stretch/>
        </p:blipFill>
        <p:spPr>
          <a:xfrm>
            <a:off x="1905120" y="5562720"/>
            <a:ext cx="485604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iografi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-a nascut la 10 iunie 1839 in satul Humulesti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-332640"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ntre anii 1846-1855 urmeaza scoala din Humulesti ,  dupa care invata la Brosteni , apoi la Tirgu-Neamt si la scoala de catiheti din Faticeni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-332640"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ntre 1855-1858 urmeaza seminarul de la Socola cursul inferior , dupa care se inscrie la Facultatea de Teologie a Universitatii din Iasi , dar nu o fregventeaza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-332640"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n 1875 il cunoaste pe Mihai Eminescu. Devin buni prieteni. Eminescu il introduce in societatea literara Junimea si-l ajutasa debuteze in Convorbiri literare 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-332640"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n 1881-1882 publica primele tri parti din Amintiri din copilarie , a patra fiind postuma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-33264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n aceeasi perioada cu Eminescu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, Creanga ste grav bolnav si se stinge din viata la 31 decembrie 1889. 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3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3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3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3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3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3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magini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2914920" cy="4133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3048120" y="1905120"/>
            <a:ext cx="3141720" cy="4133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"/>
          <p:cNvPicPr/>
          <p:nvPr/>
        </p:nvPicPr>
        <p:blipFill>
          <a:blip r:embed="rId3"/>
          <a:stretch/>
        </p:blipFill>
        <p:spPr>
          <a:xfrm>
            <a:off x="6095880" y="1905120"/>
            <a:ext cx="2862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magini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2368800" cy="3886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2362320" cy="1575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"/>
          <p:cNvPicPr/>
          <p:nvPr/>
        </p:nvPicPr>
        <p:blipFill>
          <a:blip r:embed="rId3"/>
          <a:stretch/>
        </p:blipFill>
        <p:spPr>
          <a:xfrm>
            <a:off x="2743200" y="2057400"/>
            <a:ext cx="3436920" cy="3857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"/>
          <p:cNvPicPr/>
          <p:nvPr/>
        </p:nvPicPr>
        <p:blipFill>
          <a:blip r:embed="rId4"/>
          <a:stretch/>
        </p:blipFill>
        <p:spPr>
          <a:xfrm>
            <a:off x="6172200" y="2133720"/>
            <a:ext cx="269712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magini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600280" cy="3981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2"/>
          <a:stretch/>
        </p:blipFill>
        <p:spPr>
          <a:xfrm>
            <a:off x="2895480" y="1981080"/>
            <a:ext cx="3087720" cy="3962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"/>
          <p:cNvPicPr/>
          <p:nvPr/>
        </p:nvPicPr>
        <p:blipFill>
          <a:blip r:embed="rId3"/>
          <a:stretch/>
        </p:blipFill>
        <p:spPr>
          <a:xfrm>
            <a:off x="5867280" y="1981080"/>
            <a:ext cx="308448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magini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2595600" cy="4124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3200400" y="3124080"/>
            <a:ext cx="449568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vesti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on Creanga a spus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,, Iubite cititoriu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ulte prostii ai fi cetit de cand esti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etes-te , rogu-te , ceste si , unde-i vede ca nu-ti vin la socoteala , ie pana in mana si da si tu altceva mai bun la ivala , caci eu atata ma-m priceout si atata am facut”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 scris povestile : Soacra cu trei nurori , Capra cu treii iezi , Punguta cu doi bani , Danila Prepeleac , Povestea porcului , Poveste lui Harap-Alb , Povestea lui Stan Patitul , Fata babei si fata mosneagului , Ivan Turbinca , Amintiri din copilarie ect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3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3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3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3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vestiri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on Creanga a scris si povestiri : Poveste , Mos Nichifor Cotcariul , Povestea unui om lenes , Mos Ioan Roata , Popa Duhu , Cinci pani , Ion Roata si Cuza Voda ect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vestiri didactice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reanga a scris si povestiri didactice : Pacala , Inul si Camesa , Acul si barosu , Ursul pacalit de vulpe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5T16:12:07Z</dcterms:created>
  <dc:creator>user</dc:creator>
  <dc:description/>
  <dc:language>en-US</dc:language>
  <cp:lastModifiedBy>SpOk3n</cp:lastModifiedBy>
  <dcterms:modified xsi:type="dcterms:W3CDTF">2013-06-20T20:22:08Z</dcterms:modified>
  <cp:revision>2</cp:revision>
  <dc:subject/>
  <dc:title>Ion Creanga</dc:title>
</cp:coreProperties>
</file>